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5AA-8DA6-4B91-A211-D8285B9F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D79-00E8-4B7E-91A8-85A505D1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9FC-C6F9-4B32-B601-72657088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371-4706-474B-BDAC-E5D7BFBE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187-003A-4895-B5FF-41D97399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C9D-B7A2-4635-AE83-EEE46838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924-3673-41D9-B150-80CFE191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F4D-C54A-4C64-B7DA-5A5DAB92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F30-149D-4D90-80F5-FA14C913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16D-0402-4812-85E6-C81DE845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5D2-D271-441C-98CF-DF0BE177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C8D-1EFA-47FD-B55E-69ACC12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F3E5-715F-409F-9AF0-5F05A22CA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eb.mit.edu/invent/iow/cartwright.html" TargetMode="External"/><Relationship Id="rId3" Type="http://schemas.openxmlformats.org/officeDocument/2006/relationships/image" Target="../media/image7.png"/><Relationship Id="rId4" Type="http://schemas.openxmlformats.org/officeDocument/2006/relationships/hyperlink" Target="http://web.mit.edu/invent/iow/cartwright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72200" y="53928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t Schwen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ember 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Number #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039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igskin Highlight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ember 8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05120" y="190512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1"/>
                    </a:gs>
                  </a:gsLst>
                  <a:lin ang="5400000"/>
                </a:gradFill>
                <a:latin typeface="Arial Black"/>
              </a:rPr>
              <a:t>Baseb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20120" y="685800"/>
            <a:ext cx="1218960" cy="114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620120" y="43434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880" y="838080"/>
            <a:ext cx="1067040" cy="1052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28600" y="4419720"/>
            <a:ext cx="1295280" cy="111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5120" y="4724280"/>
            <a:ext cx="5333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vented By: Alexander Joy Cart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Cartwright"/>
          <p:cNvPicPr/>
          <p:nvPr/>
        </p:nvPicPr>
        <p:blipFill>
          <a:blip r:embed="rId1"/>
          <a:stretch/>
        </p:blipFill>
        <p:spPr>
          <a:xfrm>
            <a:off x="457200" y="1600200"/>
            <a:ext cx="3076560" cy="320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22860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808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xander Joy Cartwright made the game of baseb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d also made the rules of if,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800600"/>
            <a:ext cx="3429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Basebal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Thursday, December 01,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artwrigh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3276720" cy="3170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48320" y="22860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were 9 positions on the baseball field. Catcher, Pitcher,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ase,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ase, Shortstop,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3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base, Left field, Right field, and Center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4800600"/>
            <a:ext cx="4038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emelson MIT, Baseball, Thursday, December 01, 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cartwrigh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ion: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re were 9 players (fielders) on the baseball fiel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way you won was the first team to 21 won the gam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There were 2 ways of getting out. One way was being tagged by a player or getting hit by a ball thrown from a field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In 1869, the first baseball team was made. It was the Cincinnati Red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Years after 1869, there were 2 leagues created. These tw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leagues were called the National league and the American league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The baseball association agreed that they should be a “Negro league” which means you could not play baseball that are a different race than you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ut in 1947, the Brooklyn Dodgers signed Jackie Robinson breaking the color barrier that consigned black players to the “Negro Leagues”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entor: Alexander Joy Cartw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exander was born in the year of 18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rtwright invented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ame of base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rtwright also established the rules of baseball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exander Joy Cartwright died in the summer of 189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9Z</dcterms:created>
  <dc:creator>install</dc:creator>
  <dc:description/>
  <dc:language>en-US</dc:language>
  <cp:lastModifiedBy>install</cp:lastModifiedBy>
  <dcterms:modified xsi:type="dcterms:W3CDTF">2011-12-19T14:51:05Z</dcterms:modified>
  <cp:revision>7</cp:revision>
  <dc:subject/>
  <dc:title>Slide 1</dc:title>
</cp:coreProperties>
</file>